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49E-B001-4DF0-AAB5-6337C0D0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eading slide, demonstrate by knocking something over, blowing up a balloon and popping it, lighting a candle and blowing it ou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ause and effect for the students by underlining the cause and circling the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tudents how to use this chart by referring back to example sentences (slide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students with a copy of this slide and slide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back to slide 4 to find the signal words and examine how they were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84C-E345-4692-B273-6B6E0F65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DB2-37C3-4A32-B24F-B79D20B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CB9-973F-4AF5-BA54-29462730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2F8-4D06-4624-8031-7C41C0A3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411-A2FC-46A8-8DB6-E4C82C4C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D13-B86D-4EB3-8694-570FEFA3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660-4BD1-45EF-88A6-5ADB4B1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907-E34B-4F79-A61B-9641F0A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0A5-69AF-4AC6-8300-D90086A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2FB-642C-4421-B332-F405212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572-3DDF-4593-A5D1-D467345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5E2-78A1-410A-A94E-0AE4567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4140-DD39-4464-9B2E-2B25E82B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yriad Web Pro"/>
              </a:rPr>
              <a:t>The Text Structure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Myriad Web Pro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5c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ructional Focus: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oday’s lesson we will learn how knowing and understanding the way in which a text is written can help us as readers better understand what we read. We will focus today on the text structure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use and effect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t me demonstrate cause and effect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44764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043942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701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914040"/>
            <a:ext cx="5257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A</a:t>
            </a:r>
            <a:r>
              <a:rPr b="1" lang="en-US" sz="2400" spc="-1" strike="noStrike">
                <a:solidFill>
                  <a:srgbClr val="66ccff"/>
                </a:solidFill>
                <a:latin typeface="Times-Bold"/>
              </a:rPr>
              <a:t> cause</a:t>
            </a:r>
            <a:r>
              <a:rPr b="1" lang="en-US" sz="2400" spc="-1" strike="noStrike">
                <a:solidFill>
                  <a:srgbClr val="ccccff"/>
                </a:solidFill>
                <a:latin typeface="Times-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why something happens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e actually MAKES something else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An </a:t>
            </a:r>
            <a:r>
              <a:rPr b="1" lang="en-US" sz="2400" spc="-1" strike="noStrike">
                <a:solidFill>
                  <a:srgbClr val="66ccff"/>
                </a:solidFill>
                <a:latin typeface="Times-Bold"/>
              </a:rPr>
              <a:t>effect</a:t>
            </a: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what happens; </a:t>
            </a:r>
            <a:r>
              <a:rPr b="1" i="1" lang="en-US" sz="2400" spc="-1" strike="noStrike">
                <a:solidFill>
                  <a:srgbClr val="ffffff"/>
                </a:solidFill>
                <a:latin typeface="Times-Italic"/>
              </a:rPr>
              <a:t>it’s the resul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effect can become a cause for another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TAKS, cause and effect is often phrased as a why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c5c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’s take a look at some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Rosa saved her money for more than one year, so now she is buying a new b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Last year, many students ate too much greasy food. As a result, they gained too muc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Roberto studied politics; therefore, he became a law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The weather was cold; consequently, Sarah put on her scar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In 2002, numerous rainforests were cut down. As a result, the habitats of many animals were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838080"/>
          <a:ext cx="8382240" cy="57150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533520"/>
            <a:ext cx="6781680" cy="65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Cause and Effect Signal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as a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for this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id a great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3:24:15Z</dcterms:created>
  <dc:creator>Lydia Sanchez</dc:creator>
  <dc:description/>
  <dc:language>en-US</dc:language>
  <cp:lastModifiedBy>Lydia Sanchez</cp:lastModifiedBy>
  <dcterms:modified xsi:type="dcterms:W3CDTF">2009-10-05T05:13:03Z</dcterms:modified>
  <cp:revision>4</cp:revision>
  <dc:subject/>
  <dc:title>Cause and Effect</dc:title>
</cp:coreProperties>
</file>